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7E1-4B8C-49A4-BBA2-82486E90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45D-40E0-4EBF-8E29-A302B1A5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339-0677-4CEA-B401-7C53BB89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1DA-0CAC-43B6-847E-34AD8467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970-C19B-4601-97FF-6BABD15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EF2-F552-4581-9B53-B4053728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468-5AB4-4A35-BE0C-14FD13F2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EB5-FCD8-422E-8AC7-1A03A98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E10-428D-4DDA-B98E-D716ECB2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6BB-7F26-443C-9C0C-27357EC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247-B8C6-4D39-9BE2-52EA9A4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104-CF53-499E-97BC-BAFFCD4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3A6-4055-4814-A400-98933255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cc0000"/>
                </a:solidFill>
                <a:latin typeface="Chiller"/>
              </a:rPr>
              <a:t>PORK CHO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A Pork Chop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  <a:ea typeface="Arial"/>
              </a:rPr>
              <a:t>™</a:t>
            </a:r>
            <a:r>
              <a:rPr b="0" lang="en-US" sz="3600" spc="-1" strike="noStrike">
                <a:solidFill>
                  <a:srgbClr val="ffffff"/>
                </a:solidFill>
                <a:latin typeface="Chiller"/>
              </a:rPr>
              <a:t>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80" y="1219320"/>
            <a:ext cx="9163080" cy="669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ve NO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743200"/>
            <a:ext cx="2590920" cy="236232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630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280" y="1143000"/>
            <a:ext cx="9296280" cy="5699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238428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43200" y="228600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5.43353E-006 C 0.05278 -0.0044 0.03281 -0.00116 0.06024 -0.00625 C 0.06597 -0.01365 0.06389 -0.01665 0.05868 -0.02313 C 0.05556 -0.03631 0.04705 -0.04417 0.04132 -0.0548 C 0.03507 -0.06636 0.04184 -0.06174 0.03333 -0.06544 C 0.02188 -0.0807 -0.00642 -0.09503 -0.02222 -0.0992 C -0.03594 -0.10683 -0.04896 -0.10798 -0.06354 -0.10983 C -0.06979 -0.10914 -0.07622 -0.10937 -0.08247 -0.10775 C -0.08993 -0.1059 -0.09253 -0.09596 -0.09844 -0.09087 C -0.10486 -0.0733 -0.11528 -0.06012 -0.12066 -0.04209 C -0.12517 -0.00625 -0.11823 -0.04972 -0.12691 -0.02105 C -0.13021 -0.00995 -0.1316 0.00508 -0.13333 0.0171 C -0.13125 0.05942 -0.13524 0.09618 -0.10799 0.12277 C -0.09549 0.13479 -0.08038 0.14427 -0.0651 0.14797 C -0.05729 0.14982 -0.04132 0.15236 -0.04132 0.15236 C -0.02969 0.15167 -0.01788 0.15236 -0.00642 0.15028 C -0.00191 0.14936 0.00208 0.14566 0.00642 0.14381 C 0.02674 0.13479 0.05243 0.12693 0.06823 0.10589 C 0.10538 0.05641 0.07865 0.09502 0.1 0.05918 C 0.1125 0.03838 0.12222 0.02103 0.12865 -0.00417 C 0.12934 -0.00949 0.13194 -0.02983 0.13177 -0.03376 C 0.13021 -0.07353 0.10556 -0.10105 0.08733 -0.12879 C 0.07969 -0.14035 0.07188 -0.15261 0.06024 -0.15631 C 0.05764 -0.15908 0.05556 -0.16324 0.05243 -0.16486 C 0.04792 -0.16694 0.04271 -0.16579 0.03802 -0.16694 C 0.02309 -0.17087 0.0151 -0.17365 -0.00156 -0.17527 C -0.05642 -0.17411 -0.12187 -0.18359 -0.17309 -0.14567 C -0.18802 -0.13457 -0.20017 -0.11677 -0.21441 -0.10359 C -0.22257 -0.08602 -0.23368 -0.06775 -0.23976 -0.04856 C -0.2434 -0.037 -0.24462 -0.02428 -0.24757 -0.01249 C -0.25208 0.02774 -0.24983 0.00716 -0.25399 0.04878 C -0.25208 0.10543 -0.25503 0.07884 -0.24601 0.12901 C -0.24497 0.13502 -0.24167 0.14011 -0.23976 0.14589 C -0.22951 0.17502 -0.21875 0.19699 -0.20312 0.22196 C -0.15747 0.29525 -0.08767 0.31745 -0.0191 0.32346 C 0.00104 0.32046 0.02083 0.32046 0.03976 0.31075 C 0.06181 0.29965 0.08108 0.27999 0.1 0.26219 C 0.10451 0.25803 0.1099 0.25595 0.11424 0.25155 C 0.17622 0.18959 0.22569 0.10265 0.23333 -0.00209 C 0.23003 -0.03238 0.22778 -0.05712 0.21753 -0.0844 C 0.2092 -0.10683 0.21337 -0.09272 0.20156 -0.11399 C 0.15486 -0.19862 0.08264 -0.25897 0.00313 -0.26845 C -0.05434 -0.2659 -0.09878 -0.26451 -0.15243 -0.25365 C -0.17413 -0.24486 -0.19479 -0.23307 -0.2158 -0.22197 C -0.22083 -0.21943 -0.22413 -0.21295 -0.22865 -0.20925 C -0.23854 -0.20116 -0.24861 -0.19376 -0.25868 -0.1859 C -0.26389 -0.18197 -0.26979 -0.17989 -0.27465 -0.17527 C -0.27951 -0.17064 -0.28264 -0.16324 -0.28733 -0.15839 C -0.29219 -0.1533 -0.29809 -0.15053 -0.30312 -0.14567 C -0.32135 -0.12787 -0.31441 -0.13226 -0.32691 -0.10983 C -0.34392 -0.07931 -0.36146 -0.04879 -0.37135 -0.01249 C -0.37535 0.00208 -0.3809 0.0319 -0.3809 0.0319 C -0.38385 0.07676 -0.38368 0.06173 -0.37934 0.13317 C -0.37483 0.20508 -0.32135 0.27999 -0.26979 0.29826 C -0.24115 0.30843 -0.21163 0.3089 -0.18247 0.31514 C -0.15625 0.31213 -0.12899 0.31121 -0.10312 0.3045 C -0.05243 0.29132 -0.00469 0.26774 0.04444 0.24739 C 0.06354 0.2319 0.09774 0.20762 0.11424 0.1882 C 0.12656 0.17387 0.1375 0.15699 0.14913 0.14173 C 0.15313 0.13641 0.15833 0.13271 0.16198 0.12693 C 0.18108 0.0978 0.19427 0.06358 0.21111 0.0319 C 0.23681 -0.01619 0.25486 -0.04301 0.26198 -0.10359 C 0.26076 -0.15769 0.26198 -0.17873 0.25087 -0.22405 C 0.25 -0.22798 0.24722 -0.23076 0.24601 -0.23446 C 0.2342 -0.26868 0.22326 -0.30082 0.20313 -0.32764 C 0.19201 -0.34243 0.17483 -0.34983 0.16198 -0.36139 C 0.09844 -0.41827 0.0224 -0.43307 -0.05243 -0.44394 C -0.12986 -0.45527 -0.07396 -0.45041 -0.13177 -0.45434 C -0.15451 -0.46012 -0.17257 -0.46151 -0.19687 -0.4629 C -0.29618 -0.4585 -0.38663 -0.45503 -0.48733 -0.45642 C -0.52274 -0.4592 -0.55816 -0.46313 -0.59358 -0.46498 C -0.61667 -0.46428 -0.64028 -0.46428 -0.66354 -0.4629 C -0.66806 -0.46266 -0.67378 -0.45827 -0.67778 -0.45642 C -0.68906 -0.45134 -0.69931 -0.44787 -0.71111 -0.44602 C -0.71719 -0.44047 -0.72483 -0.437 -0.73177 -0.4333 C -0.7349 -0.43168 -0.74132 -0.42914 -0.74132 -0.42914 C -0.75156 -0.4148 -0.7349 -0.43654 -0.75087 -0.42266 C -0.77569 -0.40093 -0.75399 -0.34382 -0.75399 -0.30428 E">
                                      <p:cBhvr>
                                        <p:cTn id="12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45Z</dcterms:created>
  <dc:creator>CGB</dc:creator>
  <dc:description/>
  <dc:language>en-US</dc:language>
  <cp:lastModifiedBy>CGB</cp:lastModifiedBy>
  <dcterms:modified xsi:type="dcterms:W3CDTF">2008-06-04T14:17:37Z</dcterms:modified>
  <cp:revision>6</cp:revision>
  <dc:subject/>
  <dc:title>PORK CHOP</dc:title>
</cp:coreProperties>
</file>